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9AAD-1DBA-4701-B818-95FA255D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922E-D924-4FE0-944C-C7EFC874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11995-6209-44BB-81DC-A87BA867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EF66C-66D9-47AD-96FD-A6CE06C2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18AA2-2A8A-4961-9725-83C4A4C9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D15AE-69BB-4F27-8F2C-645D6B3C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821D1-A1BE-43EC-874E-ACFEBE69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75CB4-3744-4ED5-8B22-B690427B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6C2E7-D9DE-42D8-8A86-3956A570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A6ED0-2218-455F-9F6C-E261F1D5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D4DAC-5493-42CC-A4B4-7339D453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84155-DE69-413E-A3CE-21CCB429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25A-F938-4E04-AC14-F01AD82C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98E11-5C06-42B4-BC6C-72E16DE7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2AFF3-2A93-4DBB-A233-2655B63A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A0129-4AEA-4AF3-96ED-34C76A59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28CD2-DFAE-473D-ABD4-B5AD78B7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9EC23-ECD3-419E-8CA7-E787D698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53011-6D6A-454D-819F-DAAAB71A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828CA-2F94-494A-BCDB-1AA11EE0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DD2C7-23AC-4319-B94A-4EEDC404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A7D67-7677-4EE5-8E1D-28C8E3A0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0221A-BE2A-442E-A271-DAB26330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2BD4-3C32-4BF1-9C6D-A58C7DF5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B1888-A726-426F-974E-07FDE7DA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B3A72-7579-454C-A8DC-E1230E63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63E2F-3251-40A9-A732-2CD7270D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3D1EE-E570-4174-8495-6CFE1A38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FF0FC-8A26-4A78-8FB1-7FC03B8D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76308-123B-4A26-9909-49A62154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9805A-BAF1-44D8-95F4-11524EBD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0E8B0-AF8C-4F1B-A61E-11FB29C1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3F833-893C-4EA7-B079-0001B1F0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559B2-6306-4501-A997-A31BDF84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35F8-95B7-43DE-98A1-8AB19B0D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318D6-63EC-4944-80F6-C07384F0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7AFDE-5970-4549-AE5E-0C204F87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0019C-6C6A-4127-953F-ABDC411E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52AE5-11FD-42FC-92D9-50321F3F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CD66E-12C7-4D1E-878B-FAFCE148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339DC-AACD-4FD7-BD81-D46AF3D3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6BED6-7083-4A69-90C4-78FD1592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93931-D21C-4C1D-A938-E0CC182A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16C53-D50B-4CFE-B816-06D318E7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E4652-461D-4AB1-B5B9-11E7A7DB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A7B0-EA74-41E0-BB4A-A1EFA7B9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6FC6E-3354-424A-8800-83B70104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BE5B1-D958-424B-841B-4B0A62C3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7FB7E-4AEC-4657-A513-742AB00F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6734B-338A-4E0A-B645-D9C892E7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73217-D116-46C5-B58A-280D1D73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D2741-829D-4779-81A6-10E07304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5A980-A8EE-4897-84B1-7E7CE722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F13B7-9F7C-425A-A159-9E1AD7DF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C5E17-A1A0-46C6-82AC-52855408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B9B69-57F2-4503-A9B1-E874FD80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6B4B-63A9-4687-8A82-3E88FDD0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7222C-52F4-45EE-98B8-55028B21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811FD-8FF8-480F-8E75-AB7230E5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44CE2-CAEB-430E-BADA-50D89727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AFFF6-9ED1-48EB-B9EE-62E481A6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DCDE8-A800-4832-BDCD-3BBAC3B7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070EA-803A-41BA-8972-C39F7225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37DCF-CEE8-46AD-B2DE-3916023E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6E81E0-62B6-4DC9-8AB1-DF8DC91F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821060-0DDA-4F62-9352-16BF99BD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BE0C6-477B-429E-805B-218940BE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6528-40A7-4C81-86BC-FD9E81A5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DCA01B-41E2-43B6-AA3B-620E0F20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FF3C3C-346D-4C2E-AB42-963B95B4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4F5E15-69C8-444A-8858-811610FC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3CF41B-C689-4C19-BD7E-CF87EB70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7E79CC-5FC6-44DF-899B-0C230B09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1B4A9-976C-425C-AC0B-101FA1C2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F3EF7-24A2-4ADB-9032-E8CFA4EC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7DC39-82C2-4B9E-9923-C3F6DD87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3C05A5-AD2C-4F60-969C-D2BEC61F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674C88-9FF2-4760-A8E1-4D262856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C941-7B9E-4D59-A56E-B856BF06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BF7AE-21FD-4199-BB13-2F9A6FB1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E7D13A-BF14-4CAB-A649-640F0CA4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F35C7-07A1-44CD-9473-028F98CC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4F688B-74C8-47D1-8BCA-1D924F8E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AF80F0-0C29-46D9-91DE-B9A50D12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8E337C-B7DA-4AB7-969F-E096D892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8CFB74-A0F0-460F-BFDB-55719414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04A27F-4587-4378-A56F-3E5E72D0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680639-3762-411B-9F89-813853E4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DF8253-2FD6-4636-8207-07622298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8C52-DAF3-4895-BFD2-FABAF828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98BC8F-2F90-4EA7-95CE-1F024009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9A1073-D6F8-4A04-8F70-584A358C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C13E75-EBC2-424C-9210-8640EC69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3BBF03-74DE-41BE-B971-2906B676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A06CB4-BAFF-451F-B84F-84A77732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97954E-8C3A-4BE6-A30A-2D63E829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602497-CED8-4575-8691-8D5B7084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D9C561-B129-4C56-B376-FEA60CFE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8E40A8-0ABD-40E5-AC11-2F786597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8BD663-45D8-41F0-B1A0-B689A0A1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CC2E-1C13-4A44-9A66-B0D51CB7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A360CF-AF57-440A-8BBC-DD60F6C4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8D6018-4891-4ACE-A6B0-AB365B9B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A97ACD-577D-4EFF-A3FE-4271B506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F9CD45-E6D9-4EEC-813E-A7A6CE95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651D18-4543-40C8-A2E6-AF2BE508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651192-528A-4B74-AE4E-7EEDE90D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BD206C-1C12-470B-BB58-2A00F74B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0A6F46-ABF9-4ACB-BA16-A0A0116F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1D2BFC-77CB-432D-9D83-BB3056CA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3291E2-C277-4994-B0A1-08F06AD3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59F-78DF-42FA-AF0F-CD1A233F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262B-5676-4BAC-A84B-90F3D249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A22B6C-8F2B-4B2D-BF4F-CFC058E2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863420-A08B-4100-BE8D-437E7520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D67446-901A-49F6-904B-25A69989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F3C615-9D67-4854-91F9-A08B17ED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E585CF-0B65-4811-9958-C71498E6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614BD4-19F5-4FF4-877A-EB31899B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7004A3-1B58-4958-8D0C-B1028189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FD67C8-912C-466A-856C-E3354061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EF312E-603F-4B88-9891-47F44589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F95532-B19F-489A-B010-7D38A8F7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B9D6-458F-4989-BDAA-08B818FC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0B8B8C-4D66-4035-B9D3-19D86DF1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76E1A5-2FDB-4677-9EC1-DEEBEF25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8D836B-9A73-4B08-A1AB-D3011493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A53AAD-7DF9-47D2-B8E6-78018E79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ED1A5E-8B2D-4731-9510-E6D90D92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EA6D63-139A-4748-A076-C8AF67C0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EB4827-B3B0-4A47-B114-95F53EA8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260A9F-988D-41E3-A27E-EBDF90E5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97AAF1-E76C-469E-A67B-3AF2119B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CED600-DDB7-4EEF-8E29-5750DE36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BED3-FAE1-4941-A0D5-C3298EEF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22DA11-DAB9-455B-AB99-2A44AB94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89C520-EA83-4912-9694-8D4694C1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8175A9-9A7C-4D33-873A-894F43FF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6CCD67-1D1D-48B8-B557-DEDEE066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FDC856-A9F6-4827-8A4D-0B0D4E2B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14308C-5FBD-45F2-B892-38F84463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0D790E-9372-48ED-8542-974BB8C1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A4D5D7-0456-4C01-B976-42B6D335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79DE47-CC0F-4E76-AC4A-60F71C55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B46485-704F-4EE3-B9F1-AF8A867F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D911-EC70-41F8-8C3E-E13AF4A9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268CAA-FA19-4750-A9AC-581B543A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270F81-0AB1-4907-A618-8E627EE2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6E06DC-97E0-4EF7-8179-D18EB7E8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19167E-5A65-4634-84E9-69CF0E17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857ED4-9D37-4BB7-A3A1-EA29A268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407F58-C74E-4543-80E7-7EB505C7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A47D1F-F4DC-48BF-8387-17CF6D6A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091CB8-0994-4372-AC1F-7D9E4BBA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577164-B806-4730-8674-6B1A16B4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8E1F88-1FD2-47CC-BCBC-4CCD4425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43E6-EEA8-459D-ABA3-07E0F1DC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B306E3-0BA4-475D-B6E2-04368CB4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C39FA4-C605-4644-BB01-2CF80D7D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5E42D3-8B09-4917-9C5B-6F42F6DA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E1AF61-8BF3-4859-A4A4-48DD5634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FFAD64-063B-4D1A-8FAE-F55CD385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01FBA1-009B-4391-8135-DCCD1270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4A40FE-E6AF-4174-9624-08D41DFA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0D5C78-51D0-4077-9EDB-D7CDA295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780C83-8A98-4CCD-9214-02C20BB7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0E8304-2A54-4EA7-9053-397EB66A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ACE534-70EF-4D3E-87BF-4A3698EE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CD42F1-D408-43E4-8DBC-100D0B4C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6CAB5B-AE7C-49C1-90BE-904B16E8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6A5A-5742-409C-BA57-32E1CF9E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48A27-4B33-43BE-BCAC-D62DFA91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34C96-27DD-41ED-ABC9-BCC97038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44EFB-6234-4110-86E4-F7ACEC14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154B-49B1-4C31-8279-D8D7A961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9D99D-1B72-46DB-9B42-ED80D10E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AE7FB-CADC-4064-B9DE-5569B5EB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EC883-270B-4C4D-912A-84C6FE3A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64C28-2F76-4199-AF20-1B464AA6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8A525-F994-4B19-BCF3-6010F917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FF69A-BFBE-4A63-BF19-5C7856A7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9D87E-3333-4195-A3D7-9A39568A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14A05-E530-47DB-B0DA-9C4664A2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391E4-29CE-4A99-A0FB-5900517B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75A06-D35A-4E82-9047-AA6132B2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0D5C-626A-452E-9FB4-4F5FA12A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63E54-F53F-4DF9-84BC-DBFDA7EC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47D38-E4C7-45D3-BE5E-FA146067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FD4EB-297D-42C6-9860-C23E179F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844D0-3DDF-420E-8B46-D120EDB2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CB2B3-B1DA-4C33-8C3C-E3772208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2EA2A-388D-4BD0-8FA3-205369D7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C8005-9769-4797-8CC3-B7A7DCD5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11513-CDBA-426E-94E1-74B9A096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1D5E3-F675-4FE8-A104-CE077867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54F3D-8BD6-4CDA-B4DD-C928C280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37A-6336-4F2F-A2CF-CB72EDC1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B93E3-1BCC-4A58-847B-AA1DCA3B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3B365-8C7E-4EC7-A330-7A8EC451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34F1E-E2DC-465E-96C4-0E377F2E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1339C-7D91-4379-A87F-FBFD3DD3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16EAA-F1D3-4E40-90B8-A5414986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D4291-1700-42AF-9174-3D1E3D47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E7F59-3F6E-408F-A692-60EE4D9E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0E8E5-2041-455A-ADBA-7F8B1199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97E75-D5E5-4A82-9EF3-CD4A30C0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4585A-DF85-4FD6-AB82-F06CE022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B2EF-0BD7-4594-A9C5-DDB0E0EB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E56ED-1CBE-435B-A4BF-47B39E76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A47EA-32A4-482B-B20C-DE02CADB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965AF-81BE-466B-AF1F-264903CB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72532-11F1-4524-9942-5BFF977E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99275-5358-4867-8C41-11C145C6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621ED-523F-4387-89AF-55BD241F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B4497-7062-41E5-8A36-1DDF2283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16D6D-2308-4029-B52F-17E0BC3C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EADB3-DFF9-4C33-9648-2A65AE88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59B92-2EC5-4167-82B8-49F08444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FC0-00FE-43C2-B6C8-FEEED96D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9F34A-1D33-4639-AD5D-B8BDA7D9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8D44B-0FE4-40E0-8F1E-2A646FC4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49BC5-5460-4DAB-BF27-D37A688A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7E72E-0F74-4AA1-A8E3-CEAC347F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2271B-F511-418E-BF09-47B22BF4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3D162-6128-4045-AA7E-BBC5B0B2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F32AD-E9FF-4CDE-AD74-5DF9E5FC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AE6B6-FD35-476D-BB3E-604268FF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62BFC-7272-4AE4-A6D7-6CC5E9EB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9A691-5025-4343-9F8C-82C0DEE4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E250-DDF8-46B0-8DC7-8EA50B35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9EA66-DB96-4A18-9E20-18EB737E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D4E73-E0D7-43AC-8573-D3FFEF1A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14E97-C7DA-4BCB-AC7A-29026069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660F2-8B07-4FF6-8CB6-D8A5336B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08211-9950-485E-91B4-32183319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C2B5E-1C5E-4264-9A90-5E08B86E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4353E-6659-4069-8145-29065533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B15C3-4B34-40C5-A25E-04506FDC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6F433-A36C-4E0D-9244-287DC1F0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75DA6-867D-45E7-9291-7289FDBE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9420-2EEB-4C57-AD1B-0D079BD956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5828-E546-4769-B52F-FED81C0910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8468-11E8-445F-A1A6-182711F731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A49B-D620-47AD-ADF4-072F200277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DA37-585A-48F6-82E4-371334E460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8243-424D-442B-8559-212098CA5D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82DD-D2AF-47B0-8FE9-F57E070BCE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66FC-A46D-4245-BFD2-922208488D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B5BD-24E8-41B2-9F18-DCB4DDA107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259C-9BE5-45AA-9DCA-4D87F63CC2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68AD-92B5-4E41-A68F-31E5BC7698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E3C8-5088-42CA-9E9E-49178300C6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A434-C754-42EB-BAE4-1CB0DE40F8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8FF9-A4F0-42B5-9BCA-1029839832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926E-8745-4A3D-A5EF-EB13AEB067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9500-3799-4EE4-A4E0-ADD8F70632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DBEC-CF3C-468E-98D5-037E929E5B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5062-A025-4986-B698-593A15E333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BFC5-D88B-43A6-8CEE-6ED447C276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1AB8-BE3A-44EF-8721-25C190B029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DD3D-0DC3-492B-B985-C8B6207179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0D1A-675D-4A9F-B645-8F79DDA178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BE7C-571E-4A7C-84E2-5E61AA712C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F7A2-CB5B-42DF-9F2A-664F56B5A3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E5C7-2A41-4978-8165-8B6EA5C07A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7239-8BEE-4F98-93CB-38B8C39755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D8D1-16BA-4CE8-8ACE-D4E0218FB1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07AC-6EEB-47DE-B0CD-C8AABE6071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5E90-E6B4-4F75-86F9-27A47EBF22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3CDA-102A-420F-A218-CA5A44558F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E320-17EC-43E6-B2AC-1AF2F60847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81D3-7127-49EA-A793-DC6A460144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BE03-71E9-4534-AA9F-8CCD29385C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B502-ECCD-4933-B29B-38AB349D58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9E9A-7F07-47D7-A811-CE1D74FCCF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BB70-5971-4DD8-9693-FCE642F81D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8BBE-412B-4A87-AFEA-47C220AAF5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B18B-7386-47C9-8BCB-0E14722A81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98F3-C3EC-4E75-BC26-C2650A3517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1066680" y="3014640"/>
            <a:ext cx="70106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24" name="组合 22533"/>
          <p:cNvGrpSpPr/>
          <p:nvPr/>
        </p:nvGrpSpPr>
        <p:grpSpPr>
          <a:xfrm>
            <a:off x="395280" y="1125360"/>
            <a:ext cx="7248600" cy="4962600"/>
            <a:chOff x="395280" y="1125360"/>
            <a:chExt cx="7248600" cy="4962600"/>
          </a:xfrm>
        </p:grpSpPr>
        <p:pic>
          <p:nvPicPr>
            <p:cNvPr id="1025" name="图片 22529" descr=""/>
            <p:cNvPicPr/>
            <p:nvPr/>
          </p:nvPicPr>
          <p:blipFill>
            <a:blip r:embed="rId1"/>
            <a:stretch/>
          </p:blipFill>
          <p:spPr>
            <a:xfrm>
              <a:off x="395280" y="1125360"/>
              <a:ext cx="72486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图片 22530" descr=""/>
            <p:cNvPicPr/>
            <p:nvPr/>
          </p:nvPicPr>
          <p:blipFill>
            <a:blip r:embed="rId2"/>
            <a:stretch/>
          </p:blipFill>
          <p:spPr>
            <a:xfrm>
              <a:off x="1619280" y="3645000"/>
              <a:ext cx="387648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图片 22531" descr=""/>
            <p:cNvPicPr/>
            <p:nvPr/>
          </p:nvPicPr>
          <p:blipFill>
            <a:blip r:embed="rId3"/>
            <a:stretch/>
          </p:blipFill>
          <p:spPr>
            <a:xfrm>
              <a:off x="1547640" y="4437000"/>
              <a:ext cx="403884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图片 22532" descr=""/>
            <p:cNvPicPr/>
            <p:nvPr/>
          </p:nvPicPr>
          <p:blipFill>
            <a:blip r:embed="rId4"/>
            <a:stretch/>
          </p:blipFill>
          <p:spPr>
            <a:xfrm>
              <a:off x="1706400" y="5373720"/>
              <a:ext cx="365760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3635280" y="3745080"/>
            <a:ext cx="2232000" cy="4489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3348000" y="4638600"/>
            <a:ext cx="223200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7"/>
          <a:stretch/>
        </p:blipFill>
        <p:spPr>
          <a:xfrm>
            <a:off x="3348000" y="5530680"/>
            <a:ext cx="2232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34" name="组合 21509"/>
          <p:cNvGrpSpPr/>
          <p:nvPr/>
        </p:nvGrpSpPr>
        <p:grpSpPr>
          <a:xfrm>
            <a:off x="468360" y="1555920"/>
            <a:ext cx="8086680" cy="3313080"/>
            <a:chOff x="468360" y="1555920"/>
            <a:chExt cx="8086680" cy="3313080"/>
          </a:xfrm>
        </p:grpSpPr>
        <p:pic>
          <p:nvPicPr>
            <p:cNvPr id="1035" name="图片 21505" descr=""/>
            <p:cNvPicPr/>
            <p:nvPr/>
          </p:nvPicPr>
          <p:blipFill>
            <a:blip r:embed="rId1"/>
            <a:stretch/>
          </p:blipFill>
          <p:spPr>
            <a:xfrm>
              <a:off x="468360" y="1555920"/>
              <a:ext cx="426708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图片 21506" descr=""/>
            <p:cNvPicPr/>
            <p:nvPr/>
          </p:nvPicPr>
          <p:blipFill>
            <a:blip r:embed="rId2"/>
            <a:stretch/>
          </p:blipFill>
          <p:spPr>
            <a:xfrm>
              <a:off x="4414680" y="2335320"/>
              <a:ext cx="36864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7" name="图片 21507" descr=""/>
            <p:cNvPicPr/>
            <p:nvPr/>
          </p:nvPicPr>
          <p:blipFill>
            <a:blip r:embed="rId3"/>
            <a:stretch/>
          </p:blipFill>
          <p:spPr>
            <a:xfrm>
              <a:off x="468360" y="3213000"/>
              <a:ext cx="57340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8" name="图片 21508" descr=""/>
            <p:cNvPicPr/>
            <p:nvPr/>
          </p:nvPicPr>
          <p:blipFill>
            <a:blip r:embed="rId4"/>
            <a:stretch/>
          </p:blipFill>
          <p:spPr>
            <a:xfrm>
              <a:off x="468360" y="4211640"/>
              <a:ext cx="8086680" cy="65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1835280" y="2406600"/>
            <a:ext cx="2160360" cy="449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5867280" y="2421000"/>
            <a:ext cx="2160720" cy="449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7"/>
          <a:stretch/>
        </p:blipFill>
        <p:spPr>
          <a:xfrm>
            <a:off x="1835280" y="3298680"/>
            <a:ext cx="4752720" cy="449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8"/>
          <a:stretch/>
        </p:blipFill>
        <p:spPr>
          <a:xfrm>
            <a:off x="4284720" y="4292640"/>
            <a:ext cx="4464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45" name="组合 20483"/>
          <p:cNvGrpSpPr/>
          <p:nvPr/>
        </p:nvGrpSpPr>
        <p:grpSpPr>
          <a:xfrm>
            <a:off x="755640" y="1341360"/>
            <a:ext cx="6095880" cy="3959280"/>
            <a:chOff x="755640" y="1341360"/>
            <a:chExt cx="6095880" cy="3959280"/>
          </a:xfrm>
        </p:grpSpPr>
        <p:pic>
          <p:nvPicPr>
            <p:cNvPr id="1046" name="图片 20481" descr=""/>
            <p:cNvPicPr/>
            <p:nvPr/>
          </p:nvPicPr>
          <p:blipFill>
            <a:blip r:embed="rId1"/>
            <a:stretch/>
          </p:blipFill>
          <p:spPr>
            <a:xfrm>
              <a:off x="755640" y="1341360"/>
              <a:ext cx="6095880" cy="22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图片 20482" descr=""/>
            <p:cNvPicPr/>
            <p:nvPr/>
          </p:nvPicPr>
          <p:blipFill>
            <a:blip r:embed="rId2"/>
            <a:stretch/>
          </p:blipFill>
          <p:spPr>
            <a:xfrm>
              <a:off x="826920" y="3852720"/>
              <a:ext cx="4200840" cy="144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4140360" y="2190600"/>
            <a:ext cx="3311280" cy="449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4"/>
          <a:stretch/>
        </p:blipFill>
        <p:spPr>
          <a:xfrm>
            <a:off x="2484360" y="3011400"/>
            <a:ext cx="3311640" cy="449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5"/>
          <a:stretch/>
        </p:blipFill>
        <p:spPr>
          <a:xfrm>
            <a:off x="2195640" y="3919680"/>
            <a:ext cx="3311280" cy="449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6"/>
          <a:stretch/>
        </p:blipFill>
        <p:spPr>
          <a:xfrm>
            <a:off x="2771640" y="4724280"/>
            <a:ext cx="3311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54" name="组合 8195"/>
          <p:cNvGrpSpPr/>
          <p:nvPr/>
        </p:nvGrpSpPr>
        <p:grpSpPr>
          <a:xfrm>
            <a:off x="755640" y="1268280"/>
            <a:ext cx="6991200" cy="4651560"/>
            <a:chOff x="755640" y="1268280"/>
            <a:chExt cx="6991200" cy="4651560"/>
          </a:xfrm>
        </p:grpSpPr>
        <p:pic>
          <p:nvPicPr>
            <p:cNvPr id="1055" name="图片 8193" descr=""/>
            <p:cNvPicPr/>
            <p:nvPr/>
          </p:nvPicPr>
          <p:blipFill>
            <a:blip r:embed="rId1"/>
            <a:stretch/>
          </p:blipFill>
          <p:spPr>
            <a:xfrm>
              <a:off x="755640" y="1268280"/>
              <a:ext cx="6991200" cy="13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图片 8194" descr=""/>
            <p:cNvPicPr/>
            <p:nvPr/>
          </p:nvPicPr>
          <p:blipFill>
            <a:blip r:embed="rId2"/>
            <a:stretch/>
          </p:blipFill>
          <p:spPr>
            <a:xfrm>
              <a:off x="1332000" y="2852640"/>
              <a:ext cx="5734080" cy="306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3492360" y="29383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4"/>
          <a:stretch/>
        </p:blipFill>
        <p:spPr>
          <a:xfrm>
            <a:off x="3564000" y="3730680"/>
            <a:ext cx="194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5"/>
          <a:stretch/>
        </p:blipFill>
        <p:spPr>
          <a:xfrm>
            <a:off x="4284720" y="4522680"/>
            <a:ext cx="194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6"/>
          <a:stretch/>
        </p:blipFill>
        <p:spPr>
          <a:xfrm>
            <a:off x="5292720" y="5343480"/>
            <a:ext cx="194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63" name="组合 9219"/>
          <p:cNvGrpSpPr/>
          <p:nvPr/>
        </p:nvGrpSpPr>
        <p:grpSpPr>
          <a:xfrm>
            <a:off x="1042920" y="765000"/>
            <a:ext cx="5835600" cy="5624640"/>
            <a:chOff x="1042920" y="765000"/>
            <a:chExt cx="5835600" cy="5624640"/>
          </a:xfrm>
        </p:grpSpPr>
        <p:pic>
          <p:nvPicPr>
            <p:cNvPr id="1064" name="图片 9217" descr=""/>
            <p:cNvPicPr/>
            <p:nvPr/>
          </p:nvPicPr>
          <p:blipFill>
            <a:blip r:embed="rId1"/>
            <a:stretch/>
          </p:blipFill>
          <p:spPr>
            <a:xfrm>
              <a:off x="1042920" y="765000"/>
              <a:ext cx="4238640" cy="23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图片 9218" descr=""/>
            <p:cNvPicPr/>
            <p:nvPr/>
          </p:nvPicPr>
          <p:blipFill>
            <a:blip r:embed="rId2"/>
            <a:stretch/>
          </p:blipFill>
          <p:spPr>
            <a:xfrm>
              <a:off x="1116000" y="3141720"/>
              <a:ext cx="5762520" cy="324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3059280" y="836640"/>
            <a:ext cx="1584000" cy="4492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4"/>
          <a:stretch/>
        </p:blipFill>
        <p:spPr>
          <a:xfrm>
            <a:off x="2987640" y="162864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5"/>
          <a:stretch/>
        </p:blipFill>
        <p:spPr>
          <a:xfrm>
            <a:off x="3780000" y="2435400"/>
            <a:ext cx="1584000" cy="4489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6"/>
          <a:stretch/>
        </p:blipFill>
        <p:spPr>
          <a:xfrm>
            <a:off x="3348000" y="3284640"/>
            <a:ext cx="3456000" cy="4492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7"/>
          <a:stretch/>
        </p:blipFill>
        <p:spPr>
          <a:xfrm>
            <a:off x="2987640" y="4076640"/>
            <a:ext cx="3456000" cy="4492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8"/>
          <a:stretch/>
        </p:blipFill>
        <p:spPr>
          <a:xfrm>
            <a:off x="2987640" y="4869000"/>
            <a:ext cx="3456000" cy="449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9"/>
          <a:stretch/>
        </p:blipFill>
        <p:spPr>
          <a:xfrm>
            <a:off x="3492360" y="5689440"/>
            <a:ext cx="345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5" name="图片 10241" descr=""/>
          <p:cNvPicPr/>
          <p:nvPr/>
        </p:nvPicPr>
        <p:blipFill>
          <a:blip r:embed="rId1"/>
          <a:stretch/>
        </p:blipFill>
        <p:spPr>
          <a:xfrm>
            <a:off x="109440" y="1314360"/>
            <a:ext cx="892512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8" name="图片 12289" descr=""/>
          <p:cNvPicPr/>
          <p:nvPr/>
        </p:nvPicPr>
        <p:blipFill>
          <a:blip r:embed="rId1"/>
          <a:stretch/>
        </p:blipFill>
        <p:spPr>
          <a:xfrm>
            <a:off x="128520" y="2633760"/>
            <a:ext cx="888696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1:29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